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7282-0FA2-4824-B813-4FD50DF9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744-49F4-4088-A64C-2B13A213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1E254-5B26-40B0-B83E-73EBF0B7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A1FB3-AD0A-430A-AC57-EB8B096C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AAC71-C731-4D76-BED4-4EC6C6D9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855B5B-B64B-4552-92EA-393A2D16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B74BEF-0617-451B-8207-CD84334A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8803F-4600-49E9-8B67-6E8043BA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29C995-652E-4059-85F2-CA2C6990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2BFD1D-F027-4D6E-BCD2-86089C02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F16F4-4B89-4C3B-ADB9-450AF3FA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6BEBB3-B6A2-44E6-BE37-74F67E41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CB5-5E7B-4FD8-8B17-76749DF9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93EF4-D09C-4459-A96E-BD49A552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6F62D-3F0C-4CCD-8903-456D6393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09A2E-E828-44EA-B697-81953A2F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15FD63-B703-4636-A0EB-E74AD27D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11E110-61B1-418A-9BF6-5E8FE75B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A129F4-15A0-4EDA-99C2-C21D9F95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2FBA8-9BBE-42C3-9E95-FE7BAAF8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0855C2-20BB-4BC1-8A09-15E46EB0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00F5B-9DCB-4F1C-BCDE-39A71A1B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91256-DB7A-4CB7-A0B3-BCD85DFD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CD1-3273-474C-8DA1-F1F8D93E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42B49D-C8CD-4437-B92C-F139F2E9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EF02D-4E03-463D-AE3E-8208C332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2E96F-F88D-49A2-B941-EDC657E7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8BAAB-C3F8-4EE7-AC42-7F0CA8A7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E86E4-5901-4AEE-AEC0-8374FBEE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9B949-360A-445B-B9B5-E5958287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7023F-2EAC-43EB-8FFA-04C4765B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EFF96-A926-4068-8E2A-56874DA0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240CC-59A1-4AE9-8932-8B528818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AF9E1-F5AF-4A07-96EA-1DD62457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719A-0A07-4B82-8584-2056CFC8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B7BA5-AD90-44AF-8301-79D9ADE0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3CE8A-C747-4E91-8BF9-ABBD4B95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1E3DC-7FBE-4F83-9CCF-21158B50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9C3F62-ECC1-4F78-BB90-3D0B580F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180C4-550B-40A9-B555-14986604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00A700-830B-4473-BCF8-6B00BB51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45FD1B-BB43-4ADE-A84E-A5B9A3C6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2E1031-01F4-4F08-B9DA-D0025C66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01460-6D97-4639-A417-B079A6A0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7CC4D2-FC99-4F7D-AC86-371E41FE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19A9-4899-48AA-8BE1-E0E43F86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83250-69C3-476C-A5A4-F2AEB402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BA85C-D27B-481E-A4B8-E7F8C8AB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9A4F6A-F396-40EA-8D9E-270C9E83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CB4761-DD59-4E52-B81C-F67F33D0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68BA33-9517-4111-8FF7-039701FD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2B02-43F8-4C31-A353-56B0A0D7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89D5-D19F-4D92-A7BC-331DF6E4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9F62-A573-41FA-9385-48A66B4B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C55F-F91D-498D-843A-514ADDEC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11CE-4EE9-4796-B2D7-794D4E2C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D7FB-545B-4AFF-BCDB-B974A697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DEEC-24AC-43A9-A618-5D16ECAD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1A5D-CEEB-4861-AE83-B6C09CEE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1268-6927-43CB-AA88-63183ADB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ED1E-0407-43C4-9536-2A596833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9C14-79B0-4967-AAAC-4ED44B51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81DA2-41C0-43AC-9A4D-55CEDB20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19CD6-D326-4368-AE97-9571DC5F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6B5D0-9535-4FC5-885C-27C0A4D4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2D70A-A1C3-4BA7-8655-DD3A6C3D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39147-0E37-4B6C-A384-0F1F1533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EB1D-31E0-4485-B4A8-2B18ADAB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3615C-E6F4-4913-B3C4-C87408DB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16665-E29F-486D-9F5E-4FB5E9E4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A32AC-3FE7-47DD-B22A-4F7E6C33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98CD0-85C3-4BFD-A6B2-1D3B86E9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6AF65-3831-480F-A7C6-B2A641CB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FBB8D-C5EC-43B2-8D46-93EA3D0B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E411A-41A6-4AA8-A50B-1418312F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5E490-B2DC-450F-B028-7A41C310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44B02-B443-4C95-B586-DAF9301A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787FC-DEF1-43C0-A181-4F95410C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215-4247-4FCD-B08C-517C5E7E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4FED9-F7D9-4DBB-8A63-3FEC369B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647C4-DF03-4871-A921-5A25D53A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479F0-4B70-4729-A011-720E7F18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9ABFD-E171-4334-8782-613DECB6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4DFE0-E762-4D6F-B210-3CE151A3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08416-2801-4053-BC9C-08FDC551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21E24-8702-4837-AFBE-245EBE84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6CABC-D2EB-4511-910A-EF4E0D9D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2BB85-88CC-45C3-BE87-8B3D3337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CD1DB-40B9-4E44-912B-DD316E19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6A5B-9C64-4E27-BFDC-4FC4ACA8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59058-1DB1-404B-B9C1-36C91E9D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59BA5-48F0-4B26-9430-401E7D62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E6B3E-0FF9-4845-AB08-06FCD9D5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3D7D4-39F0-48F7-9430-49B4642D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8F50B-C58B-49CB-8F71-EF2F6824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E2DBD-89DF-4091-A3AF-4A482F5B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41BF7-29A9-468F-A2B6-95F5568F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14006-65CA-4EAA-B78C-6F515F89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0B0B5-F440-4952-A7AD-89827386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96686-AFE8-41EC-88A1-0B03CA57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72DC-5274-49D8-A706-3417A524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47601-8C05-42D8-8945-0666DFE0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20675-C96C-473D-808A-0E5680AA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8E423-D12F-4C0A-8A67-EFFA38D0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A203B-232B-41F5-8C7E-C21C83D3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DC719-D6B3-415C-8935-E6F917C9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22B88-F9AE-44FF-AE62-79BCCBCD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40449-CFE1-44C8-A499-B74165E9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E87ED-4794-4FBA-90F0-D912637A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48A25-F836-4C01-9284-6F2957DB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E8375-2B6C-4233-9A89-EE8F951F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300E-D7F9-4FCF-89D4-C9F59D05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F6039-4A20-48A6-82B4-88F286AC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F5B73-23A8-4861-8FC1-573B8B22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E59EE-25B2-4C36-8713-D89DD7D7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FDB04-1B14-46A4-9B37-251B7130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AE176-2D67-4D9A-BAD5-EED9F3A2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8AE8E-371D-4A54-9989-5926FF1A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12209-ED96-450D-9E24-7A268459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CE844-C72C-4472-8735-6CC41C79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8B698-9AFF-4B59-83E7-186EBDAB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9DED8-1A43-4888-9114-E53777D5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EEC-A5C3-462C-B5C0-21AFB071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B7865-CC31-40C5-9280-65863CF0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67467-EF22-4A68-B464-A5705B9E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83BDE-3C78-4787-A5A0-980CF396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09110-31E1-4B5F-971B-98049029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E4E18-E3BF-464F-8C93-FEF280B3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9E5B8-12D7-4E7E-AAA4-F2BC9DB2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F4D74-73B2-495F-968D-A33D044F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BAB1E-791E-4FA6-91BA-4C0DA8B8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99CA9-A502-467D-8DAB-42754299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7DABE-EB05-4394-BD69-EFEAA003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E2D3-4AD9-4C32-9864-29A3496C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DFA2B-B81D-4D62-B405-9105E2D6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E80EE-2387-40DC-9E48-920E08DE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6CE3B-706E-4198-81C2-058755F3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5F59A-96A7-48B5-958E-E137B9E2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102A2-33D1-4C5A-8E02-6463C9B3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2EA8E-AB0F-4064-A0E9-BF21066E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352D0-5B5A-44F0-AAC3-97E6F1CD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45FA4-9353-4D81-AC7B-F9E26DDE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F263A8-5FC2-4928-8F41-55175B2E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81000-503C-4565-A2D1-651FBA7B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89A3-DC70-4970-8342-759161D89A35}" type="slidenum">
              <a:rPr b="0" lang="fr-BE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Connecteur droit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Ellipse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Ellipse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2408-5772-4348-B9E3-0980A6A7DBBC}" type="slidenum">
              <a:rPr b="0" lang="fr-BE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BB7D-3EE6-490C-8A47-BC18FA9DBB2D}" type="slidenum">
              <a:rPr b="0" lang="fr-BE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Connecteur droit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Ellipse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Ellipse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F057-0F1A-469D-8DB8-97775113EF35}" type="slidenum">
              <a:rPr b="0" lang="fr-BE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necteur droit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llipse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685E-08E7-4CBE-964D-DC1383FB2959}" type="slidenum">
              <a:rPr b="0" lang="fr-BE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1DE0-A719-4B46-A335-18D0CE13BF44}" type="slidenum">
              <a:rPr b="0" lang="fr-BE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necteur droit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llipse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llipse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67AE-91DF-4511-BBB6-9C8392694422}" type="slidenum">
              <a:rPr b="0" lang="fr-BE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nnecteur droit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FE51-7F0D-43A2-A786-4D9242AFF1D8}" type="slidenum">
              <a:rPr b="0" lang="fr-BE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Connecteur droit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necteur droit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llipse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llipse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76DA-59B8-4359-AD64-18AD51FCE57A}" type="slidenum">
              <a:rPr b="0" lang="fr-BE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onnecteur droi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llipse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llipse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B723-292E-4E95-8FA1-9B34E52BA15A}" type="slidenum">
              <a:rPr b="0" lang="fr-BE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CB66-5BA4-4757-8424-72162340E357}" type="slidenum">
              <a:rPr b="0" lang="fr-BE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Connecteur droit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llipse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llipse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FE0C-F9E1-4FAC-80CD-25448A871698}" type="slidenum">
              <a:rPr b="0" lang="fr-BE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eorgia"/>
              </a:rPr>
              <a:t>FONDS DE COMMERCE (Déf)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Ensemble des éléments meubles corporels (matériel, outillage, marchandises) et incorporels (droit au bail, nom, enseigne) qu’un commerçant ou un industriel groupe et organise en vue de la recherche d’une clientèle ( le fonds constitue une entité juridique distincte des éléments qui le composent)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Georgia"/>
              </a:rPr>
              <a:t>Matériel/ outill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Georgia"/>
              </a:rPr>
              <a:t>Marchandis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680" y="2471400"/>
            <a:ext cx="41990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Georgia"/>
              </a:rPr>
              <a:t>Partie intégrante du FDC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Georgia"/>
              </a:rPr>
              <a:t>Sauf lorsque le commerçant est aussi propriétaire de l’immeuble où meubles st immeubles par destination (ex de statue décorant le hall d’un hôtel)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Recours au crédit : se procurer un financement par leur remise en </a:t>
            </a:r>
            <a:r>
              <a:rPr b="0" lang="fr-FR" sz="2700" spc="-1" strike="noStrike" u="sng">
                <a:solidFill>
                  <a:srgbClr val="000000"/>
                </a:solidFill>
                <a:uFillTx/>
                <a:latin typeface="Georgia"/>
              </a:rPr>
              <a:t>gage (nantissement avec dépossessio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eorgia"/>
              </a:rPr>
              <a:t>Eléments corporel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eorgia"/>
              </a:rPr>
              <a:t>Eléments incorporel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00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Nom commerci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Enseigne (emblème, dénomination de fantais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Droits de la propriété industrielle et commercia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Droit au renouvellement du bai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Flèche vers le bas 3"/>
          <p:cNvSpPr/>
          <p:nvPr/>
        </p:nvSpPr>
        <p:spPr>
          <a:xfrm>
            <a:off x="4357800" y="2500200"/>
            <a:ext cx="484200" cy="5716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lèche vers le bas 4"/>
          <p:cNvSpPr/>
          <p:nvPr/>
        </p:nvSpPr>
        <p:spPr>
          <a:xfrm>
            <a:off x="4357800" y="3500280"/>
            <a:ext cx="484200" cy="5716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lèche vers le bas 5"/>
          <p:cNvSpPr/>
          <p:nvPr/>
        </p:nvSpPr>
        <p:spPr>
          <a:xfrm>
            <a:off x="4357800" y="4572000"/>
            <a:ext cx="484200" cy="5716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Nom commercial (NC) / Enseign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NC = Moyen d’attirer une clientèle + valeur patrimonia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Protection légale (c/ tte forme d’usurpatio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Protection en cas de notoriété exceptionnelle (mm en l’absence de risque de confusio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Enseigne = Mot de passe ou une  inscription apposée sur l’immeuble où est exploité le FDC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Protégée par la  priorité d’usa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Flèche vers le bas 3"/>
          <p:cNvSpPr/>
          <p:nvPr/>
        </p:nvSpPr>
        <p:spPr>
          <a:xfrm>
            <a:off x="4311720" y="3718080"/>
            <a:ext cx="484200" cy="546120"/>
          </a:xfrm>
          <a:prstGeom prst="downArrow">
            <a:avLst>
              <a:gd name="adj1" fmla="val 50000"/>
              <a:gd name="adj2" fmla="val 50076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3416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0" lang="fr-FR" sz="3000" spc="-1" strike="noStrike">
                <a:solidFill>
                  <a:srgbClr val="7b9899"/>
                </a:solidFill>
                <a:latin typeface="Georgia"/>
              </a:rPr>
              <a:t> 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Georgia"/>
              </a:rPr>
              <a:t>Dts de la propriété industrielle et commerciale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Ex. brevets d’invention, marques, dessins &amp; modèles industrie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Monopole d’exploitation - d’utilisation (titulair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Ils peuvent faire l’objet d’une cession (vente) globale du FDC ou d’une cession séparé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Flèche vers le bas 3"/>
          <p:cNvSpPr/>
          <p:nvPr/>
        </p:nvSpPr>
        <p:spPr>
          <a:xfrm>
            <a:off x="4143240" y="3071880"/>
            <a:ext cx="785880" cy="691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Dts de la propriété intellectuel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Dts de la propriété littéraire et artistique 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Droits d’auteur (ouvrages, collections, logiciel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Droits sur les renseignements non divulgués (secret de fabrique par exemple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Protection nationale + internationa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Flèche vers le bas 4"/>
          <p:cNvSpPr/>
          <p:nvPr/>
        </p:nvSpPr>
        <p:spPr>
          <a:xfrm>
            <a:off x="4338720" y="4149720"/>
            <a:ext cx="4284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7b9899"/>
                </a:solidFill>
                <a:latin typeface="Georgia"/>
              </a:rPr>
              <a:t>Dt au renouvellement du bai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C’est quoi? = le dt systématique du locataire (propriétaire d’un fonds de commerce) de renouveler son contrat de bail avec les mêmes condi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Champ d’application (Cas où il est appliqué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Exploitation d’un FDC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Baux d’immeubles ou locaux dans lesquels des établissements d’enseignement privé exercent leur activité / Ou les cliniques et établissements similaire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. Dans lesquels est exercée une activité pharmaceutique, laboratoires et cabinets radiolog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Georgia"/>
              </a:rPr>
              <a:t>Notions voisin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Georgia"/>
              </a:rPr>
              <a:t>Boutique == lieu d’exercice de l’activité / plus appropriée au commerce de détail traditionnel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Georgia"/>
              </a:rPr>
              <a:t>L’immeuble où il est exploité (murs) == propriété distincte et faisant partie d’une catégorie séparée des biens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Georgia"/>
              </a:rPr>
              <a:t>L’entreprise == notion économique plus large (organisation pour exploiter des activités de production, distribution, services), non limitée aux Activités commercial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Georgia"/>
              </a:rPr>
              <a:t>La clientèle == élément essentiel du FDC mais a existence juridique et matérielle distincte (clientèle n’est pas la propriété du commerçant = but de son commerce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Georgia"/>
              </a:rPr>
              <a:t>La loi n° 15-95 code de commerce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Art 79-8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« Le fonds de commerce est un bien meuble incorporel constitué par l’ensemble de biens mobiliers affectés à l’exercice d’une ou de plusieurs activités commerciales 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« …comprend obligatoirement: la clientèle et l’achalandage (…) 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Double flèche verticale 3"/>
          <p:cNvSpPr/>
          <p:nvPr/>
        </p:nvSpPr>
        <p:spPr>
          <a:xfrm>
            <a:off x="4286160" y="2000160"/>
            <a:ext cx="484200" cy="642960"/>
          </a:xfrm>
          <a:prstGeom prst="upDownArrow">
            <a:avLst>
              <a:gd name="adj1" fmla="val 50000"/>
              <a:gd name="adj2" fmla="val 49998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lèche vers le bas 4"/>
          <p:cNvSpPr/>
          <p:nvPr/>
        </p:nvSpPr>
        <p:spPr>
          <a:xfrm>
            <a:off x="4286160" y="4214880"/>
            <a:ext cx="484200" cy="5493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Georgia"/>
              </a:rPr>
              <a:t>Clientèl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Georgia"/>
              </a:rPr>
              <a:t>Achalandag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Possibilité de contrat futur, renouvel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Personnes assurant la revente de produits (par l’acha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Achat/ </a:t>
            </a:r>
            <a:r>
              <a:rPr b="0" lang="fr-FR" sz="2700" spc="-1" strike="noStrike" u="sng">
                <a:solidFill>
                  <a:srgbClr val="000000"/>
                </a:solidFill>
                <a:uFillTx/>
                <a:latin typeface="Georgia"/>
              </a:rPr>
              <a:t>service reçu pour les qualités personnelles </a:t>
            </a: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du commerça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Achat/ </a:t>
            </a:r>
            <a:r>
              <a:rPr b="0" lang="fr-FR" sz="2700" spc="-1" strike="noStrike" u="sng">
                <a:solidFill>
                  <a:srgbClr val="000000"/>
                </a:solidFill>
                <a:uFillTx/>
                <a:latin typeface="Georgia"/>
              </a:rPr>
              <a:t>service reçu pour l’emplacement du commerc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Georgia"/>
              </a:rPr>
              <a:t>La loi n° 15-95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eorgia"/>
              </a:rPr>
              <a:t>Exclusion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Georgia"/>
              </a:rPr>
              <a:t>Sont exclus </a:t>
            </a: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du bénéfice du fonds de commerce et de la protection légale y afférent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Georgia"/>
              </a:rPr>
              <a:t>Commerçant de fait </a:t>
            </a: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: exercice habituel ou professionnel mais pas d’immatriculation au RC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Georgia"/>
              </a:rPr>
              <a:t>Baux des locaux situés dans des centres commerciaux</a:t>
            </a: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 gérés sous une seule enseigne / Commerce intégré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Flèche vers le bas 3"/>
          <p:cNvSpPr/>
          <p:nvPr/>
        </p:nvSpPr>
        <p:spPr>
          <a:xfrm>
            <a:off x="4716360" y="2421000"/>
            <a:ext cx="484200" cy="477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eorgia"/>
              </a:rPr>
              <a:t>La clientèle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Qualité de </a:t>
            </a:r>
            <a:r>
              <a:rPr b="1" lang="fr-FR" sz="2700" spc="-1" strike="noStrike" u="sng">
                <a:solidFill>
                  <a:srgbClr val="ff0000"/>
                </a:solidFill>
                <a:uFillTx/>
                <a:latin typeface="Georgia"/>
              </a:rPr>
              <a:t>client</a:t>
            </a: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 = s’approvisionner régulièrement chez le commerça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Partie intégrante de la propriété commercia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Conséque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1. Création du FDC à partir du moment d’existence d’une clientè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Flèche vers le bas 3"/>
          <p:cNvSpPr/>
          <p:nvPr/>
        </p:nvSpPr>
        <p:spPr>
          <a:xfrm>
            <a:off x="4325760" y="3859200"/>
            <a:ext cx="484200" cy="620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eorgia"/>
              </a:rPr>
              <a:t>La clientèle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Caractères issus de la jurisprudenc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Clientèle réelle - certain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Clientèle personnelle au titulaire du FDC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Clientèle commerciale (non pas civile);  licite (attachée à un commerce sur des choses pure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Flèche vers le bas 5"/>
          <p:cNvSpPr/>
          <p:nvPr/>
        </p:nvSpPr>
        <p:spPr>
          <a:xfrm>
            <a:off x="4286160" y="2214720"/>
            <a:ext cx="484200" cy="620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eorgia"/>
              </a:rPr>
              <a:t>Eléments corporel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Eléments réels (choses corporelles) sur lesquels sont exercés des droit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Outillage / Matériel / Marchandises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Égal 3"/>
          <p:cNvSpPr/>
          <p:nvPr/>
        </p:nvSpPr>
        <p:spPr>
          <a:xfrm>
            <a:off x="4000680" y="30718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188366"/>
                </a:moveTo>
                <a:lnTo>
                  <a:pt x="793196" y="188366"/>
                </a:lnTo>
                <a:lnTo>
                  <a:pt x="793196" y="403433"/>
                </a:lnTo>
                <a:lnTo>
                  <a:pt x="121204" y="403433"/>
                </a:lnTo>
                <a:lnTo>
                  <a:pt x="121204" y="188366"/>
                </a:lnTo>
                <a:close/>
                <a:moveTo>
                  <a:pt x="121204" y="510967"/>
                </a:moveTo>
                <a:lnTo>
                  <a:pt x="793196" y="510967"/>
                </a:lnTo>
                <a:lnTo>
                  <a:pt x="793196" y="726034"/>
                </a:lnTo>
                <a:lnTo>
                  <a:pt x="121204" y="726034"/>
                </a:lnTo>
                <a:lnTo>
                  <a:pt x="121204" y="510967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Georgia"/>
              </a:rPr>
              <a:t>Matériel/ outillag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Georgia"/>
              </a:rPr>
              <a:t>Marchandis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Georgia"/>
              </a:rPr>
              <a:t>Objets corporels d’exploitation du FDC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Georgia"/>
              </a:rPr>
              <a:t>Machines + équipemen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Georgia"/>
              </a:rPr>
              <a:t>Elément de plus en plus important (spécialisation des machines, ex. dans l’organisation des spectacles publics : les manèges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Actif circulant = matières premières et produits fin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Nature instable (détruites par consommatio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Georgia"/>
              </a:rPr>
              <a:t>Leur Destination = la ven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Eléments corporels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p:transition spd="slow" advTm="2000">
    <p:fade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4T23:12:23Z</dcterms:created>
  <dc:creator>SAMSUNG</dc:creator>
  <dc:description/>
  <dc:language>en-US</dc:language>
  <cp:lastModifiedBy>Utilisateur Windows</cp:lastModifiedBy>
  <dcterms:modified xsi:type="dcterms:W3CDTF">2020-08-20T00:39:20Z</dcterms:modified>
  <cp:revision>42</cp:revision>
  <dc:subject/>
  <dc:title>Le fonds de commerce</dc:title>
</cp:coreProperties>
</file>